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CCCC-50A4-4C81-A613-6DE2D6DDEA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AE927-0827-4C4A-9FC1-EF5F80A836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6EFDC-0146-4600-BA3D-8E3ABBC26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D0922-3612-4EE2-A0A2-279F0AA2FA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0CD2-307C-489A-B192-58B77DCED6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4F85E-4A3C-4401-B449-BBA5443131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73B3-40EF-4E78-B917-8F2A8666D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47AB-498F-4951-ADD8-CB246EAD4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FD540-5057-4E0E-B8AF-75690B1FE1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C967-3B2E-43AD-B351-9567CF52AD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367EB-89CA-4EDF-B7EF-2C18A003E6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79F8-7568-41F8-AA74-C8EDCCCC9B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3CDA-BFCE-4D64-829F-62C1282DB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5648-03D4-4FDA-BF93-3FC5A75773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42C-E07F-43EF-816D-DE7CC0A302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9E7B-843C-4474-9ECA-6698FA38A6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C11C-E346-4604-B271-906BF9D65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2C4DF-DB91-4889-B884-33EFAA57D1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6288-5FEF-46FC-9C6C-C1CE21B548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76DD-7BBD-4962-9223-E1F2A4DFB2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49AF-6A16-48F3-8E36-528EB62E1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076-D0F1-4036-9BD9-1872BB307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BC1E-1751-4368-B3D8-5FCCC5C6C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48AB-A637-4578-B01D-51C3CE699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62F-D7F7-4E5C-B840-E5103C39D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A570-F834-4990-9A57-F2A66728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3D3A-1898-4EF0-B293-664C96524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C988-6699-4B56-B207-B90E2CDE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A0BA-CC34-4399-B648-E406D8F9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A78F-ADCF-45A2-9A29-88B5E10D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A74C4-F195-4C50-B81F-14014217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959-7984-4333-B3A9-5D2F0FB7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985-9E17-4653-BDC5-D05DFE22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5D9A7-2901-4ABB-BDA7-DC950B30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2474A-7649-4113-9CF6-A4C77A2E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86DF9-CB17-49C8-964C-7E4E96F78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58C1-E688-481B-A548-88A7677D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D8B8-C738-4123-8E95-633B99643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3682-A25B-4539-871B-CDE098AA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39A7-7678-4BEE-83E2-E05DB212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6139C-B08C-4095-A5C7-204C1E905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93C1-4024-4EF5-AE18-421D5CBD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C563-EA51-46D9-9E25-3B6EBDDC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87406-7084-4968-8E48-32E7A1EB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06800-E214-4471-91FF-EB3F1D2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0580F-0BA6-428B-8AE5-72AC89F8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05829-F1D3-4201-99C5-B6884AAEF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B8D1A-E929-43BE-92B4-1076466C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90F2-07EE-4B44-B306-1FC999DA9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9C917-3089-4894-A378-AB834F3A7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5B395-5F34-4428-A35A-AE913F8D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0DEFD-F3F5-49D0-85BE-E858CC79A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2362B-0133-4BFF-AC6E-F6527564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8E93-B0CF-4A1C-BC02-C5FA6586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95D19-02BD-4510-873F-B3EE9D87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2F7E-A045-449C-A4D6-5ED5EEA62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28E68-3F60-4543-8A15-6BBB9CE7B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C4DAA-F52C-45D7-9FB3-30C934E7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1E311A-203D-4FBE-9ABA-E8BBB68C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9AD3E-68E5-41D8-B1F2-F0740D3EB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24E4-22A0-49E2-B3AB-9E4D62C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7D1A5-54DB-4E84-A78D-C6FD9667A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A162-FD84-4B67-9F83-159C7F388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FCE2B-1CC5-49E7-8958-6819BEC1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5B6-3FA3-46BD-8F0D-580144B1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1B381-39AC-4973-862E-C18B6A5D6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C35DD-582A-471B-8A5A-C5F50AAE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32DFB-9DFE-426F-BC0A-D270D953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69707-D3CA-44B9-A15B-1E1B8639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A98F3-9AFE-4A8F-AC58-0BFB7A615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59FD1-2CCA-4B5D-A4A3-3FAC0420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D62BD-5FF6-474A-97C2-A050369F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D2918-5206-4467-8341-120216EE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FA231-ECB0-4CF4-9E73-BBC292F4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14C65-46C0-4BAD-89F1-CD258226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A687-AC9D-42C7-8C03-54F11D1B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B3573-CA80-49E9-A204-4F2638D6B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0004-21F8-46D8-8D32-5F4E15D9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485-AE99-4437-A7C9-BB9A11A9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45B0-F4CA-430D-BF63-AB7518C5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CB4C-F543-49B1-8E1D-61A29089AADB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A624F-9059-49F2-965A-33B48CA3F3FF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27B8-4BAA-42DB-928F-F3175D2B8C3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1422-2B28-4FB1-84B7-0EA0544688FB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DE1AB-C88B-45F8-89DF-FAEFA3B53ABA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40400" cy="287820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rebuchet MS"/>
              </a:rPr>
              <a:t>Tuesday, Feb. 9, 2010    6 - 8 pm</a:t>
            </a:r>
            <a:br>
              <a:rPr sz="1900"/>
            </a:b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3124080" y="5029200"/>
            <a:ext cx="586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signed &amp; Led by Professional Learning T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Gail Nalven and Ayala Rybak, Lead Tea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lan Block, Education Dir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usan Ticker, LOMED Consul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are the big ideas that pop out? Are there any theme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does this tell us about the situations that have the greatest impact on our lives and shape who we are as Jews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Title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f education in our congregation purposely set out to create these kinds of experiences with these characteristics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ow would the results be different? What might be the impact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 children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their parents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 congregation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ourselves?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pperplate Gothic Light"/>
              </a:rPr>
              <a:t>Learners will be on a journey of tikkun olam (mending the world) guided by a Jewish moral compas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ill develop the knowledge, the sense of belonging, the values/beliefs and skills and habits to contribute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mending the world.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mmentary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ewish tradition serves as a guide to understanding issues of social justice and social action and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chese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working on these issues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Learners who achieve this priority goal engage in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(world repair) through learning value concepts and their connection to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mitzvo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by studying Jewish sources, acting and reflecting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2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60688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57200" y="2741760"/>
            <a:ext cx="723888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pic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read of Affliction – Ha Lachma Anya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You Tube Video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ful Learning Pla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3" descr=""/>
          <p:cNvPicPr/>
          <p:nvPr/>
        </p:nvPicPr>
        <p:blipFill>
          <a:blip r:embed="rId1"/>
          <a:stretch/>
        </p:blipFill>
        <p:spPr>
          <a:xfrm>
            <a:off x="5200560" y="1139760"/>
            <a:ext cx="3625920" cy="2067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89200" y="3282840"/>
            <a:ext cx="3429000" cy="192096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pperplate Gothic Light"/>
              </a:rPr>
              <a:t>learner  outcomes measurement  for effective  educational design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32" name="Picture Placeholder 6" descr="Stefanie photo 1.jpg"/>
          <p:cNvPicPr/>
          <p:nvPr/>
        </p:nvPicPr>
        <p:blipFill>
          <a:blip r:embed="rId2"/>
          <a:stretch/>
        </p:blipFill>
        <p:spPr>
          <a:xfrm>
            <a:off x="549360" y="927000"/>
            <a:ext cx="44305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456840" y="160020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 stands out for you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123720" y="1600200"/>
            <a:ext cx="4575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chool should be more like camp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ower of experiential learning over form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Value of lifelong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njoyed the chance to share with colleagu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rontal approach crowds out powerful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at’s next?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aculty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rch 16 with Haz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pril 13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y 11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aching with Tikkun Olam in mind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Welcom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nnection Ques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ext Stud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Core Convers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Next Step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Title 4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800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ority Goal – Tikkun Olam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emorable Experienc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199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hole Person Learning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Cognitive Learning: Know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ffective Learning: Believing and Belong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c6c6c"/>
                </a:solidFill>
                <a:latin typeface="Trebuchet MS"/>
              </a:rPr>
              <a:t>Authentic Living: Doing</a:t>
            </a:r>
            <a:endParaRPr b="0" lang="en-US" sz="24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understand the Priority Goal and will be able to explain it to others (parents and children)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reflect on their own memorable Jewish experiences and see them as a model of what they could provide for their own learner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achers will be inspired by the Priority Go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Title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identify one lesson where they can incorporate the concept of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tikkun olam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into a learning experience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[Future Sessions] Teachers will develop learner outcomes that include affective realm (KDBB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c6c6c"/>
                </a:solidFill>
                <a:latin typeface="Trebuchet MS"/>
              </a:rPr>
              <a:t>Please share your favorite thing to teach and why it is special to you.</a:t>
            </a:r>
            <a:endParaRPr b="0" lang="en-US" sz="32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Helene: Holocaust – increase empathy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liza: Holocaust – connect with Jewish people; Hebrew; etc.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Yona: Hebrew 3</a:t>
            </a:r>
            <a:r>
              <a:rPr b="0" lang="en-US" sz="2000" spc="-1" strike="noStrike" baseline="30000">
                <a:solidFill>
                  <a:srgbClr val="6c6c6c"/>
                </a:solidFill>
                <a:latin typeface="Trebuchet MS"/>
              </a:rPr>
              <a:t>rd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 Grade; Prayers; Torah stories – cuz I’m good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Karen: Holocaust – personal history; Hebrew – aha moment; Art – Hebrew calligraphy to see boys shine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Gail: Jewish text – see learner apply it (drama, writing in own words, adapting to show understanding)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lan: sociology – helping kids learn to ask questions: C.Rogers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1"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Ayala: Israel to 4</a:t>
            </a:r>
            <a:r>
              <a:rPr b="0" lang="en-US" sz="2000" spc="-1" strike="noStrike" baseline="30000">
                <a:solidFill>
                  <a:srgbClr val="6c6c6c"/>
                </a:solidFill>
                <a:latin typeface="Trebuchet MS"/>
              </a:rPr>
              <a:t>th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 Grade – helping kids connect in meaningful way; introduce and bring country closer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emorable Jewish Learning Experienc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ere: Identify the Context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at: Describe the Experienc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Why: Explain why it was memorable to you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Gail  - learner’s minyan, power of prayer, transformative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yala – int’l school for holocaust studies, content learning, wealth of information, thought provok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Karen – visiting yad vashem, record of family, 1967 expo, powerful imagery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liza – receiving ordination, moved by the presence of Reb Zalman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Helene – Hearing Elie Wiesel in college, feeling his words heart and soul, awakening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Alan – trip to Israel, looking upon open view of Jerusalem, feeling a sense of “home”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04720" indent="-2214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Susan – Avad group at camp, leading rosh chodesh celebration same day as first walk on the moon, powerful connection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2:03:18Z</dcterms:created>
  <dc:creator>tickers</dc:creator>
  <dc:description/>
  <dc:language>en-US</dc:language>
  <cp:lastModifiedBy>tickers</cp:lastModifiedBy>
  <dcterms:modified xsi:type="dcterms:W3CDTF">2010-03-12T00:35:52Z</dcterms:modified>
  <cp:revision>18</cp:revision>
  <dc:subject/>
  <dc:title>KTI Faculty LOMED Professional Learning </dc:title>
</cp:coreProperties>
</file>